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A182-1DE8-4905-8FFE-E54469988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65F0-769C-471C-81F3-710A12508A7E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6AB-CD4D-4DFD-B521-F97997989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98A6-AE6E-4572-BAEB-7D4313DD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4AA1-BE1E-4655-9B5C-34EE0B04B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28B9-9013-4673-ADB2-F76CC0762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19DB-1557-41F4-9F91-EDF4CE5E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43F39-E0C7-48D6-9A6E-CD4C9904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9C820-A082-4C24-8D18-D58CB1673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D582A-EE55-49CB-BA11-1B545A027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0640D-83E9-42EA-83B8-DDD244F83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740F-0E81-469B-91F1-F78F2A2EC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E8F1-DDEE-40A2-8BD9-43510A26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D305-D8E1-4843-B434-DDAAFDC16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7F6B3-2D39-406C-8C78-8BF22873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37731-8247-45FF-81E3-BF9D7758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34417-1CFE-46FC-98E4-EB41BBE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1E09B-8E38-4C4E-852E-4FB9FDD20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AEAC-A1BE-4FE7-8D5B-9F8C64540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E45E-8B64-4192-BF09-AD8EBE1A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615B-8EB7-4FE8-8187-4A229541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4D7F1-1633-42E6-92F5-8B5F7475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A84278-D0D6-4A0D-AC2F-CBCA9A2CA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C696C-85DC-41F9-AD48-9DBA0FD0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1A31-9619-4C6D-B6C8-F648D023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F9E33-AAC2-42EB-8503-B73BF537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F038A7-4243-478F-82E6-FE3ED710D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5148A-BF41-4014-A5F5-BEDC3B9D7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B89D9-E2CF-49C1-8C37-F2B70783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47C38E-FF0E-4874-A872-7C2EFB1DB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7B540-3D17-4B61-873E-F28AFF08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72A03-CABF-4975-A4F5-164F628BD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EB12E-8BF8-462D-BF68-3E51A403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38DDC-D18C-4A5B-8DC7-20017364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91349-6012-4122-8212-AB24C2DD6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33F7-3894-414C-809E-9C5113076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4DFF1-9616-4D39-9DC1-1CA2336EA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2B3D5-04EE-4A8C-A9AE-0BF6F05CE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D5E389-A801-4948-BA08-46B9CDDF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197FC8-B2DC-46EB-A9FA-4471C97C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6D5F2-A666-4C46-BF4B-6757BB2F9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8D5D9-FFDA-4998-9F33-F5E7169B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5AC46B-3FBD-4806-8289-B5216FA82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83889-308B-44F5-B9C1-E8D8F6FB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6C1B5-DDB1-4FB4-B7A4-EBF375603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0C4A2-4F50-4E17-A1A4-EC56E5450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7D7C-E1C7-43A8-8CAB-1CD3AB929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23C2D4-96B7-4542-AB19-A5093D23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84AC8-FEA8-4639-887F-C55424353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91D76-FF4C-49FC-90E6-F89D0ED5F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A64DA-8456-4B41-9545-64B71000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B8AB-F899-460B-A678-AA30C6FF9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69B1B4-D575-4A4F-A947-35E77573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690392-6A8E-462D-AE23-882D7965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BC3C6F-1B1D-4445-8475-B358D909D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95E1F1-FF39-41B1-9EE8-55C51345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236F7-A61C-49F2-8925-A063FC24E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2C55-8839-4FF6-B144-DB42D6736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575FC-3C51-4B41-917E-787A76B50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0DA9A8-4BE5-4309-9A36-86E21570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10FB1-1250-4F2E-931C-31F36FCD5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042CA-9492-444B-AF76-68ED4677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B1411-76A8-440E-B27D-1BBBAFCC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5D815-86FA-4F10-A144-F479B02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2E742-E6CF-484F-A5FE-59F1C458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146741-4451-479E-BDDE-75665A4A3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CA141-2628-40D3-970D-5CBF1B25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6AE6F-31F7-483B-A96C-95A100E6C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5B2F-4F4B-4CC8-A0B4-965F4692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7594B-FF3D-48C8-982C-80DFCCCC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CC113-2270-4215-B06C-60B0DDCE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FC7A1-2FB5-49C7-A159-596C654F1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98C3-E399-4F2B-A9B8-AF07D5D0D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98F2-4B5D-4367-BABD-9568BEA3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21A9A-E2E8-4339-B3CE-10F37163E4A0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F95E4-4AD8-4584-BD6F-89DFD878CE5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DBB45-3FCA-46DA-91CA-02C8F899AE7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68FF7-9AA7-44CF-BE48-C62DE189FA71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CDB99-A728-4FB0-B72D-B21FD020D26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298800"/>
              <a:chOff x="637560" y="534600"/>
              <a:chExt cx="8109000" cy="29880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29880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1F3D-0448-4ACB-AFAF-EC4A76E04C9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8032680" cy="5591160"/>
        </p:xfrm>
        <a:graphic>
          <a:graphicData uri="http://schemas.openxmlformats.org/drawingml/2006/table">
            <a:tbl>
              <a:tblPr/>
              <a:tblGrid>
                <a:gridCol w="2314440"/>
                <a:gridCol w="1254240"/>
                <a:gridCol w="1190520"/>
                <a:gridCol w="1041480"/>
                <a:gridCol w="1219320"/>
                <a:gridCol w="1012680"/>
              </a:tblGrid>
              <a:tr h="474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 состоянию на 01.10.20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год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900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88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42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7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14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0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9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3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1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6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0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ПРОЕКТ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20 ГОД  </a:t>
            </a:r>
            <a:br>
              <a:rPr sz="1300"/>
            </a:br>
            <a:r>
              <a:rPr b="1" lang="ru-RU" sz="1300" spc="-1" strike="noStrike">
                <a:solidFill>
                  <a:srgbClr val="006666"/>
                </a:solidFill>
                <a:latin typeface="Arial"/>
              </a:rPr>
              <a:t>782,15 млн.руб.</a:t>
            </a:r>
            <a:endParaRPr b="1" lang="en-US" sz="13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0" name="Object 4" descr=""/>
          <p:cNvPicPr/>
          <p:nvPr/>
        </p:nvPicPr>
        <p:blipFill>
          <a:blip r:embed="rId1"/>
          <a:stretch/>
        </p:blipFill>
        <p:spPr>
          <a:xfrm>
            <a:off x="1165320" y="2368440"/>
            <a:ext cx="7076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20 год – 448,61 млн.руб. (местный бюджет – 178,44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270,1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2" name="Object 4" descr=""/>
          <p:cNvPicPr/>
          <p:nvPr/>
        </p:nvPicPr>
        <p:blipFill>
          <a:blip r:embed="rId1"/>
          <a:stretch/>
        </p:blipFill>
        <p:spPr>
          <a:xfrm>
            <a:off x="660240" y="1438200"/>
            <a:ext cx="8250480" cy="498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73,23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4" name="Object 4" descr=""/>
          <p:cNvPicPr/>
          <p:nvPr/>
        </p:nvPicPr>
        <p:blipFill>
          <a:blip r:embed="rId1"/>
          <a:stretch/>
        </p:blipFill>
        <p:spPr>
          <a:xfrm>
            <a:off x="915840" y="1282680"/>
            <a:ext cx="7705800" cy="551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на 2020 год – 21,77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1,8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18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20,12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0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2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7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2" name="Object 3" descr=""/>
          <p:cNvPicPr/>
          <p:nvPr/>
        </p:nvPicPr>
        <p:blipFill>
          <a:blip r:embed="rId1"/>
          <a:stretch/>
        </p:blipFill>
        <p:spPr>
          <a:xfrm>
            <a:off x="1062000" y="21542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год – 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,</a:t>
            </a:r>
            <a:r>
              <a:rPr b="1" lang="en-US" sz="1800" spc="-1" strike="noStrike">
                <a:solidFill>
                  <a:srgbClr val="006666"/>
                </a:solidFill>
                <a:latin typeface="Times New Roman"/>
              </a:rPr>
              <a:t>35</a:t>
            </a: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4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МП «ЗАЩИТА НАСЕЛЕНИЯ И ТЕРРИТОРИИ ДАЛЬНЕРЕЧЕНСКОГО ГОРОДСКОГО ОКРУГА ОТ ЧРЕЗВЫЧАЙНЫХ СИТУАЦИЙ ПРИРОДНОГО И ТЕХНОГЕННОГО ХАРАКТЕРА»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на 20</a:t>
            </a:r>
            <a:r>
              <a:rPr b="1" lang="en-US" sz="1500" spc="-1" strike="noStrike">
                <a:solidFill>
                  <a:srgbClr val="006666"/>
                </a:solidFill>
                <a:latin typeface="Times New Roman"/>
              </a:rPr>
              <a:t>20</a:t>
            </a: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 год – 11,26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6" name="Object 3" descr=""/>
          <p:cNvPicPr/>
          <p:nvPr/>
        </p:nvPicPr>
        <p:blipFill>
          <a:blip r:embed="rId1"/>
          <a:stretch/>
        </p:blipFill>
        <p:spPr>
          <a:xfrm>
            <a:off x="1071720" y="2031840"/>
            <a:ext cx="7548480" cy="47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20 год – 1,66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8" name="Object 3" descr=""/>
          <p:cNvPicPr/>
          <p:nvPr/>
        </p:nvPicPr>
        <p:blipFill>
          <a:blip r:embed="rId1"/>
          <a:stretch/>
        </p:blipFill>
        <p:spPr>
          <a:xfrm>
            <a:off x="1282680" y="1892160"/>
            <a:ext cx="729000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 Бюджет 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7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7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9.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.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НЕПРОГРАММНЫЕ НАПРАВЛЕНИЯ ДЕЯТЕЛЬНОСТИ, СОСТАВЛЯЮЩИЕ БОЛЕЕ 1%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СХОДОВ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0" name="Object 4" descr=""/>
          <p:cNvPicPr/>
          <p:nvPr/>
        </p:nvPicPr>
        <p:blipFill>
          <a:blip r:embed="rId1"/>
          <a:stretch/>
        </p:blipFill>
        <p:spPr>
          <a:xfrm>
            <a:off x="630360" y="1235160"/>
            <a:ext cx="7839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600"/>
            </a:b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35748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(по состоянию на 01.10.2019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5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0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5,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9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8,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5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4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3,8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3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2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14360" y="990720"/>
          <a:ext cx="8567640" cy="6245280"/>
        </p:xfrm>
        <a:graphic>
          <a:graphicData uri="http://schemas.openxmlformats.org/drawingml/2006/table">
            <a:tbl>
              <a:tblPr/>
              <a:tblGrid>
                <a:gridCol w="4027320"/>
                <a:gridCol w="1244880"/>
                <a:gridCol w="950760"/>
                <a:gridCol w="806400"/>
                <a:gridCol w="804960"/>
                <a:gridCol w="7333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по состоянию на 01.10.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к 20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0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4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бюджетам на реализацию мероприятий по обеспечению жильем молодых семе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бюджетам на реализацию программ формирования совре-менной городской среды</a:t>
                      </a: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и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Субсидии на строительство детского сада, ремонт зданий и благо-устройство территорий детских садов, капитальный ремонт школ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 бюджетам на реализацию мероприятий и на поддержку государственных программ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,8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убвенций бюджету Дальнереченского городского округа: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2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государственных гарантий реализации прав на получение дошкольного образования в муниципальных дошкольных образовательных организациях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реализацию дошкольного, общего и дополнительного образования в муниципальных общеобразовательных учреждениях по основным общеобразовательным программа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5,4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обучающихся бесплатным питание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54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рганизацию и обеспечение оздоровления и отдыха детей Приморского края (за исключением организации отдыха детей в каникулярное время)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на обеспечение детей-сирот жилыми помещениям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венции на выполнение переданных полномочий Российской Федерации и субъектов Российской Федерац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</a:t>
                      </a: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ПРОЕКТ </a:t>
            </a:r>
            <a:br>
              <a:rPr sz="1900"/>
            </a:b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ГОД (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768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7" name="Object 4" descr=""/>
          <p:cNvPicPr/>
          <p:nvPr/>
        </p:nvPicPr>
        <p:blipFill>
          <a:blip r:embed="rId1"/>
          <a:stretch/>
        </p:blipFill>
        <p:spPr>
          <a:xfrm>
            <a:off x="1127160" y="1235160"/>
            <a:ext cx="7045200" cy="499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ПРОЕКТ</a:t>
            </a:r>
            <a:br>
              <a:rPr sz="1900"/>
            </a:b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ГОДУ (3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9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,</a:t>
            </a:r>
            <a:r>
              <a:rPr b="1" lang="en-US" sz="1900" spc="-1" strike="noStrike">
                <a:solidFill>
                  <a:srgbClr val="06072e"/>
                </a:solidFill>
                <a:latin typeface="Times New Roman"/>
              </a:rPr>
              <a:t>08</a:t>
            </a: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Object 4" descr=""/>
          <p:cNvPicPr/>
          <p:nvPr/>
        </p:nvPicPr>
        <p:blipFill>
          <a:blip r:embed="rId1"/>
          <a:stretch/>
        </p:blipFill>
        <p:spPr>
          <a:xfrm>
            <a:off x="485640" y="1566720"/>
            <a:ext cx="8001000" cy="469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9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И 20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0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-202</a:t>
            </a:r>
            <a:r>
              <a:rPr b="0" lang="en-US" sz="1900" spc="-1" strike="noStrike">
                <a:solidFill>
                  <a:srgbClr val="06072e"/>
                </a:solidFill>
                <a:latin typeface="Times New Roman"/>
              </a:rPr>
              <a:t>2</a:t>
            </a: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1" name="Object 4" descr=""/>
          <p:cNvPicPr/>
          <p:nvPr/>
        </p:nvPicPr>
        <p:blipFill>
          <a:blip r:embed="rId1"/>
          <a:stretch/>
        </p:blipFill>
        <p:spPr>
          <a:xfrm>
            <a:off x="325440" y="1138320"/>
            <a:ext cx="4686120" cy="573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ГОДУ (302,14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4" name="Object 6" descr=""/>
          <p:cNvPicPr/>
          <p:nvPr/>
        </p:nvPicPr>
        <p:blipFill>
          <a:blip r:embed="rId1"/>
          <a:stretch/>
        </p:blipFill>
        <p:spPr>
          <a:xfrm>
            <a:off x="517680" y="1152360"/>
            <a:ext cx="8459640" cy="53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РОЕКТ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по состоянию на 01.10.20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ек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 к 2019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77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2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4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1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0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5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7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0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8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5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1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2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7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2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1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2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,9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82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0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3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ПРОЕКТ </a:t>
            </a:r>
            <a:br>
              <a:rPr sz="1700"/>
            </a:b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20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ГОД (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782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1" lang="en-US" sz="1700" spc="-1" strike="noStrike">
                <a:solidFill>
                  <a:srgbClr val="330033"/>
                </a:solidFill>
                <a:latin typeface="Times New Roman"/>
              </a:rPr>
              <a:t>15</a:t>
            </a: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308" name="Object 4" descr=""/>
          <p:cNvPicPr/>
          <p:nvPr/>
        </p:nvPicPr>
        <p:blipFill>
          <a:blip r:embed="rId1"/>
          <a:stretch/>
        </p:blipFill>
        <p:spPr>
          <a:xfrm>
            <a:off x="558720" y="1397160"/>
            <a:ext cx="8178840" cy="51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11-27T00:23:01Z</dcterms:modified>
  <cp:revision>213</cp:revision>
  <dc:subject/>
  <dc:title>Структура собственных доходов на 2016 год бюджета Дальнереченского городского округа</dc:title>
</cp:coreProperties>
</file>